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media/image1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10B7-8EE7-44D6-BBC9-A32BCB94D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s of symmetry appear frequently in nature and could teach geometry in a variety of wa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agram lines of symmetry on worksheet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dentify lines of symmetry in the insects they classify and collec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ognize or rule out the possibility of symmetrical lines in leaves, trees, etc.</a:t>
            </a: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24CD-D465-4418-B314-AD068B9D9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BDD8-7836-4BAA-9443-F9F44DF75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C6FE2-10D1-4E2C-BCF6-42791CC5EB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AB1F2C85-1B70-4199-A2AB-04B4C83DD8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0CE48-C80D-413B-BD7A-43409A38A6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0FA7E3-EAC1-49CB-976D-051F4114E6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E3D77B-5379-4E66-B534-52FFE7F48A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5741C-C522-40C0-B378-E53D6B382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2557E-5309-4BF4-9DC4-6BF219ACA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74853-945B-4C24-9169-8C4787F14C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61B1E1-5138-4DD1-A95D-2C44E93500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9F248F-B7FF-4605-A29A-E7D7B252D4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2A9466-D2E0-4244-817C-90866D7BB2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F5DDAB-3BBB-4D15-B329-7EBC5B75B5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5CDE8A29-1E91-40E1-9F0C-9D71FD0686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C364B5-9C1F-41C0-9559-57A30E6F6B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BC3F04-9DB6-490A-A004-4B9098C99E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AE78F-037C-459A-BA9F-A56ED92E00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40CBF-3D27-44E6-9A66-D0930E3A47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82BB2F-966F-4351-A9AA-558B56B748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43EEA-0638-4CE7-8BF9-6EB3EB050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6F57CE-276E-48FC-807E-41A40C64B7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12A439-128B-4DD0-A5A9-F38DA70990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63F1BF-905D-444E-8965-8B25EA067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7F06E3-590F-4FA6-BD41-E39F35D29A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CD202860-85DD-4CC8-ADF4-0C92EDE2E3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C4E419-F56B-4426-96AE-B34810FE2A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A73967-E2D3-47A7-9E7D-2AA65BFB93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B3FECA-C5EF-4A04-80D7-A2DE6880A7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C9F404-26DE-4AB3-9AB6-114D717400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76541E-F623-472B-AF27-2E084161A7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1FC5F9-5435-41EB-BE54-39BAD21567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E72C37-EB0B-49BE-996A-DFC5FF85FA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B648C5-193B-44E1-8F31-8B709B31AF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0855CD-CD4E-41BE-8194-31B7496D2A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E4D0D3-D1DB-4B70-942B-29956D80ED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63AC91-0A96-4D33-9C24-E566819BD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091F56-15E4-4BE7-AAEE-8126AC097B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296D11-D525-4E06-9AF2-1378E83A22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E2E3E4-11C0-40D4-8C5C-6B22CF8730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17C3D6-B1B5-4791-8BEA-85F23503658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C2A8EB-694F-4A25-B8A1-BF4BADDF85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11DBE8-8B47-4525-9255-33BDD448E0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C34D35-8321-411F-9250-6E9A39F147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5CE4B2-7D9F-402A-AD5E-BA7B4EB9E4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408646-9737-4C55-B8ED-65D43C350B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67760B-5A31-42A9-BED2-7E9FAF0832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2B4D64FC-AEC6-4DFB-9A8D-DF8C5287B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E5437F-6993-4D58-8212-D0AC03E3CB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EC7E6B-3DEC-410A-ABAD-EB325C7F9E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4704C0-BC78-41BA-8E9D-62C0FD1601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7D2340-E723-4DF4-B324-0DCCE49BE7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3C6F1B-4EE6-4347-86EB-0DD1C53DEE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7BE60AB1-57ED-48F0-A917-8B8519738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DDE67671-10CD-4A3C-BF0F-3288BA75B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CF745F55-1D37-4677-9816-2A9D02173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6724C1F8-A145-408A-A887-D46978FBB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9ECF6C8-3237-4FD2-9CB2-03C900A3D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06AD0EA4-5975-43EB-9650-881FBF3C61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0E4AFD91-D749-42A7-8DBD-16FBD0D0D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B809E680-FEA9-452D-84EB-FB47C1E023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344739F0-C398-4856-A99D-55F853185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BE99A21D-285D-4DFC-A031-E6E7A6EAE5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083BC274-3CB8-414A-A5CE-425901164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D831B-D7F7-4BD0-B6BD-BA2F07563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0ED28-29C9-4248-91C8-F30255ED8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ACC91-0749-4022-AF49-3F4D916BC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DEF9E-AFBA-4373-A479-8F4583F57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4CA9F-BB96-46DF-BD73-33B4DC9B4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C8303192-5A99-4FA8-8FC0-B8FA818BAA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A6B97-2CAF-477F-B6B3-6718D7C95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7E684-8344-492A-94F6-EB8A113B1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18B4C-416D-4074-94C8-19F20946E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95E35-D321-4291-A5F8-606C68EA3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9AF76-6ABE-4473-942C-7EFEA4BB2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89614-E679-4945-97E7-CDE2115842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7EF8B3-1341-491D-B2AF-46138DF03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77D928-F9EC-4CED-B6E1-2B5284829F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22514D-6CC1-4156-9021-DD9364699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93556-6B19-4EE4-AA1C-B25D1A5A6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A36682E8-2FE1-42F6-876B-1D0E31CD081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8D838-6A01-40C0-A43D-9E55C90FE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17F351-E738-4963-9B2E-8778A0663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38343-F6F8-4A27-87C6-E788BCACC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1EC0C-1A81-46B4-8C2A-E8B000A26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4291E-FB83-4AAA-A910-FD345D3C0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556499-C926-4D5E-B35E-D89BDD509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C176A-688A-4695-8C46-BBA017A8F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A0E420-3868-4A8B-BDAE-A231E74AB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A322B3-C5EE-4DD0-95C1-4C974C93BF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E2557-6B1F-4D5F-901C-C856110E8A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4D170A68-3F73-48FA-A233-3A8DD98B58F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65DFB-529B-4CDD-919E-CF2CD580D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39F347-EC83-4088-AEA6-913CEE914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2BB2A-75D3-4F89-86C8-94AFB3FEA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386A4-2126-46A6-BA26-EB1241A0F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6977B-22DA-4B60-9AB0-05FD0C159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AB3FB-D6AA-43E4-83F0-982FFB579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2BCBB-EB3E-48A1-9055-848EFFBD7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E5409-9EB2-45F9-8F26-C1ECAEE9E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4009A-837F-45A4-BA9A-591E7DDEF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826696-00C6-4DB2-AE98-E58AD0ACD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2C32C578-A69E-45FC-851D-546C08AF19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62A6C6-47DE-4D94-951F-F9051E2F8C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7FC68A-E672-497C-B8AC-A5BB7D76E9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844FD2-8CA3-4825-ABEC-778879E103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6A205-B6CC-4E90-931E-75513D7BBF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CE15E-3051-490B-83AC-FA6FC8583B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DE6AB-7609-42AC-96B1-80C99170F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88C4D1-1B52-4662-8812-A87A39A16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CFE50D-A13D-4B1A-8017-2DEE70B6C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914BA-4478-440B-8F7A-77CCF873E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F8ED6-2D05-46DC-AA1B-A7917CCCA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A4F8A352-B949-42A3-B65F-F5366BD072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CB780-6479-481E-BB93-71CFB119A2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862485-292D-44CB-A43C-6B70307E09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C29517-551E-4D51-9413-2BE831DA6B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D39539-9D8D-4842-9E49-E67176066C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626341-F905-4A76-9708-CBB48EDB3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8E1BD-17C2-46FD-AA59-13110D5929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9C166-8547-4C0C-AE5F-A65A53B70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9F9640-DBC8-46E7-A0A0-BEE6B8651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5EF55-D6B9-44E1-BC81-136C6F5334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EBB081-D563-45DE-825A-3629DA69EF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BEB4E43B-E291-4D99-B7CA-25AF8362298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86B7A-975E-4619-BCFC-F653FD3E1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C3455-6941-42A4-8B38-CFF30B58D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61AD1D-F230-4FD9-85AA-DF8A50784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1C76B7-6233-470A-ADFD-D26CBF3173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B79E95-29D9-46CC-B4C5-A50EFF886F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DADFCB-3094-406B-AE62-299E0E758A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B28543-D686-490A-8EAD-A486F94BB8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92FB3-D3DC-4458-8709-3EAD7233B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6C6D5-5F8A-470E-98EA-B578D704F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3F69CF-E30D-42D5-B5C6-354F76107D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94C92277-2652-49D9-9CE8-29F5598DD77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44BAAA-E89A-4BE7-83E2-39E1F470D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8AF66-0524-4E3B-989E-9731C21B5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0D231-D8A9-489E-A403-A39C73C8D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13D5B3-6A23-41F2-A0CD-38F5522AC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E3FBD-CFB7-4F69-A949-E38F47258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EF754A-AC76-4E4F-9AFC-B063978690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9D072B-D5AF-4411-974E-E0AC0F5B3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D9594E-89C1-44F5-8739-82AB476FCA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1BF647-5D87-4E35-9CA4-2A977DE644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6C4E0F-483E-4CB6-A2C3-A894A7F34B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BF66-679E-4E58-AC20-F56D8981A6C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3373-134C-44E3-B541-1B6E065EA1E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9A6F-E5FD-4EED-950C-A98FCBD4B9F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8001-4511-4C77-BEA9-3A4549E48C2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4B0-B800-46E0-8E7A-E275F51A95F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F05E-9800-4814-A8A4-C229C748185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4E53-0B78-48DE-B0B6-6D2ED8FBD5B6}"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AF04-0AE7-4F16-B7E9-5556D558459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1F56-3A2F-469F-9244-65C9B10BC1C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1660-5390-4D80-A6CF-A0ECE08CE44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545A-72AD-4A2D-8425-47BD6989381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8636-68DA-40F8-8AB2-104ACD87A03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denimpine.com/documents/pine_beetle_web1.jpg" TargetMode="External"/><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denimpine.com/documents/pine_beetle_web1.jpg" TargetMode="External"/><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pinning butterflies for their collection. How many lines of symmetry does this Monarch Butterfly have?</a:t>
            </a:r>
            <a:endParaRPr b="0" lang="en-US" sz="2800" spc="-1" strike="noStrike">
              <a:solidFill>
                <a:srgbClr val="4e3b30"/>
              </a:solidFill>
              <a:latin typeface="Verdana"/>
            </a:endParaRPr>
          </a:p>
        </p:txBody>
      </p:sp>
      <p:pic>
        <p:nvPicPr>
          <p:cNvPr id="578" name="Picture 6" descr="See full size image"/>
          <p:cNvPicPr/>
          <p:nvPr/>
        </p:nvPicPr>
        <p:blipFill>
          <a:blip r:embed="rId1"/>
          <a:stretch/>
        </p:blipFill>
        <p:spPr>
          <a:xfrm>
            <a:off x="3495600" y="3537000"/>
            <a:ext cx="2143080" cy="164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One line of symmetry. The insect can be divided into two congruent (matching) halves if a line is</a:t>
            </a:r>
            <a:br>
              <a:rPr sz="2800"/>
            </a:br>
            <a:r>
              <a:rPr b="0" i="1" lang="en-US" sz="2800" spc="-1" strike="noStrike">
                <a:solidFill>
                  <a:srgbClr val="4e3b30"/>
                </a:solidFill>
                <a:latin typeface="Verdana"/>
              </a:rPr>
              <a:t>drawn down the midsection.</a:t>
            </a:r>
            <a:br>
              <a:rPr sz="2800"/>
            </a:br>
            <a:r>
              <a:rPr b="0" i="1" lang="en-US" sz="2800" spc="-1" strike="noStrike">
                <a:solidFill>
                  <a:srgbClr val="4e3b30"/>
                </a:solidFill>
                <a:latin typeface="Verdana"/>
              </a:rPr>
              <a:t>This is bilateral symmetry.</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There are not two lines of symmetry because a horizontal line does not split the insect into two congruent sides.</a:t>
            </a:r>
            <a:endParaRPr b="0" lang="en-US" sz="2800" spc="-1" strike="noStrike">
              <a:solidFill>
                <a:srgbClr val="4e3b30"/>
              </a:solidFill>
              <a:latin typeface="Verdana"/>
            </a:endParaRPr>
          </a:p>
        </p:txBody>
      </p:sp>
      <p:grpSp>
        <p:nvGrpSpPr>
          <p:cNvPr id="581" name="Group 12"/>
          <p:cNvGrpSpPr/>
          <p:nvPr/>
        </p:nvGrpSpPr>
        <p:grpSpPr>
          <a:xfrm>
            <a:off x="6981480" y="4952880"/>
            <a:ext cx="1781640" cy="1162080"/>
            <a:chOff x="6981480" y="4952880"/>
            <a:chExt cx="1781640" cy="1162080"/>
          </a:xfrm>
        </p:grpSpPr>
        <p:pic>
          <p:nvPicPr>
            <p:cNvPr id="582" name="Picture 6" descr="See full size image"/>
            <p:cNvPicPr/>
            <p:nvPr/>
          </p:nvPicPr>
          <p:blipFill>
            <a:blip r:embed="rId1"/>
            <a:stretch/>
          </p:blipFill>
          <p:spPr>
            <a:xfrm>
              <a:off x="7105680" y="4952880"/>
              <a:ext cx="1514520" cy="1162080"/>
            </a:xfrm>
            <a:prstGeom prst="rect">
              <a:avLst/>
            </a:prstGeom>
            <a:ln w="0">
              <a:noFill/>
            </a:ln>
          </p:spPr>
        </p:pic>
        <p:cxnSp>
          <p:nvCxnSpPr>
            <p:cNvPr id="583" name="AutoShape 20"/>
            <p:cNvCxnSpPr/>
            <p:nvPr/>
          </p:nvCxnSpPr>
          <p:spPr>
            <a:xfrm flipH="1">
              <a:off x="6981480" y="5525280"/>
              <a:ext cx="1782000" cy="1080"/>
            </a:xfrm>
            <a:prstGeom prst="straightConnector1">
              <a:avLst/>
            </a:prstGeom>
            <a:ln w="28440">
              <a:solidFill>
                <a:srgbClr val="000000"/>
              </a:solidFill>
              <a:miter/>
            </a:ln>
          </p:spPr>
        </p:cxnSp>
      </p:grpSp>
      <p:grpSp>
        <p:nvGrpSpPr>
          <p:cNvPr id="584" name="Group 25"/>
          <p:cNvGrpSpPr/>
          <p:nvPr/>
        </p:nvGrpSpPr>
        <p:grpSpPr>
          <a:xfrm>
            <a:off x="7095960" y="2057400"/>
            <a:ext cx="1514520" cy="1619640"/>
            <a:chOff x="7095960" y="2057400"/>
            <a:chExt cx="1514520" cy="1619640"/>
          </a:xfrm>
        </p:grpSpPr>
        <p:pic>
          <p:nvPicPr>
            <p:cNvPr id="585" name="Picture 6" descr="See full size image"/>
            <p:cNvPicPr/>
            <p:nvPr/>
          </p:nvPicPr>
          <p:blipFill>
            <a:blip r:embed="rId2"/>
            <a:stretch/>
          </p:blipFill>
          <p:spPr>
            <a:xfrm>
              <a:off x="7095960" y="2257200"/>
              <a:ext cx="1514520" cy="1162080"/>
            </a:xfrm>
            <a:prstGeom prst="rect">
              <a:avLst/>
            </a:prstGeom>
            <a:ln w="0">
              <a:noFill/>
            </a:ln>
          </p:spPr>
        </p:pic>
        <p:cxnSp>
          <p:nvCxnSpPr>
            <p:cNvPr id="586" name="AutoShape 19"/>
            <p:cNvCxnSpPr/>
            <p:nvPr/>
          </p:nvCxnSpPr>
          <p:spPr>
            <a:xfrm>
              <a:off x="7887960" y="2057400"/>
              <a:ext cx="1080" cy="162000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discussing the insect Emerald Ash Borer. They examine images of trees that have been damaged by the beetle. How many lines of symmetry does the infested ash tree have?</a:t>
            </a:r>
            <a:endParaRPr b="0" lang="en-US" sz="2800" spc="-1" strike="noStrike">
              <a:solidFill>
                <a:srgbClr val="4e3b30"/>
              </a:solidFill>
              <a:latin typeface="Verdana"/>
            </a:endParaRPr>
          </a:p>
        </p:txBody>
      </p:sp>
      <p:pic>
        <p:nvPicPr>
          <p:cNvPr id="589" name="Picture 12" descr="Emerald Ash Borer and &quot;D&quot; Shaped Pupal Chambers"/>
          <p:cNvPicPr/>
          <p:nvPr/>
        </p:nvPicPr>
        <p:blipFill>
          <a:blip r:embed="rId1"/>
          <a:stretch/>
        </p:blipFill>
        <p:spPr>
          <a:xfrm>
            <a:off x="6122880" y="358128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ne. There are no lines that can be drawn on the tree to create two congruent (similar) sides. Emerald Ash Borers do not follow a certain pattern when they bore into ash trees. Therefore, the</a:t>
            </a:r>
            <a:br>
              <a:rPr sz="2800"/>
            </a:br>
            <a:r>
              <a:rPr b="0" i="1" lang="en-US" sz="2800" spc="-1" strike="noStrike">
                <a:solidFill>
                  <a:srgbClr val="4e3b30"/>
                </a:solidFill>
                <a:latin typeface="Verdana"/>
              </a:rPr>
              <a:t>path created will not have</a:t>
            </a:r>
            <a:br>
              <a:rPr sz="2800"/>
            </a:br>
            <a:r>
              <a:rPr b="0" i="1" lang="en-US" sz="2800" spc="-1" strike="noStrike">
                <a:solidFill>
                  <a:srgbClr val="4e3b30"/>
                </a:solidFill>
                <a:latin typeface="Verdana"/>
              </a:rPr>
              <a:t>lines of symmetry.</a:t>
            </a:r>
            <a:endParaRPr b="0" lang="en-US" sz="2800" spc="-1" strike="noStrike">
              <a:solidFill>
                <a:srgbClr val="4e3b30"/>
              </a:solidFill>
              <a:latin typeface="Verdana"/>
            </a:endParaRPr>
          </a:p>
        </p:txBody>
      </p:sp>
      <p:sp>
        <p:nvSpPr>
          <p:cNvPr id="592"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3" name="Group 34"/>
          <p:cNvGrpSpPr/>
          <p:nvPr/>
        </p:nvGrpSpPr>
        <p:grpSpPr>
          <a:xfrm>
            <a:off x="5866920" y="3352680"/>
            <a:ext cx="2591280" cy="3277080"/>
            <a:chOff x="5866920" y="3352680"/>
            <a:chExt cx="2591280" cy="3277080"/>
          </a:xfrm>
        </p:grpSpPr>
        <p:pic>
          <p:nvPicPr>
            <p:cNvPr id="594" name="Picture 12" descr="Emerald Ash Borer and &quot;D&quot; Shaped Pupal Chambers"/>
            <p:cNvPicPr/>
            <p:nvPr/>
          </p:nvPicPr>
          <p:blipFill>
            <a:blip r:embed="rId1"/>
            <a:stretch/>
          </p:blipFill>
          <p:spPr>
            <a:xfrm>
              <a:off x="6133680" y="3581280"/>
              <a:ext cx="2057760" cy="2743560"/>
            </a:xfrm>
            <a:prstGeom prst="rect">
              <a:avLst/>
            </a:prstGeom>
            <a:ln w="0">
              <a:noFill/>
            </a:ln>
          </p:spPr>
        </p:pic>
        <p:cxnSp>
          <p:nvCxnSpPr>
            <p:cNvPr id="595" name="AutoShape 27"/>
            <p:cNvCxnSpPr/>
            <p:nvPr/>
          </p:nvCxnSpPr>
          <p:spPr>
            <a:xfrm flipH="1">
              <a:off x="7161840" y="3352680"/>
              <a:ext cx="1080" cy="3277440"/>
            </a:xfrm>
            <a:prstGeom prst="straightConnector1">
              <a:avLst/>
            </a:prstGeom>
            <a:ln w="28440">
              <a:solidFill>
                <a:srgbClr val="000000"/>
              </a:solidFill>
              <a:miter/>
            </a:ln>
          </p:spPr>
        </p:cxnSp>
        <p:cxnSp>
          <p:nvCxnSpPr>
            <p:cNvPr id="596" name="AutoShape 28"/>
            <p:cNvCxnSpPr/>
            <p:nvPr/>
          </p:nvCxnSpPr>
          <p:spPr>
            <a:xfrm>
              <a:off x="5866920" y="4952520"/>
              <a:ext cx="2591640" cy="144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describing mountain pine beetle infestation and are learning to properly indentify and classify the insect. They recognize the lines of symmetry that exist within the Order Coleoptera.</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many lines of symmetry</a:t>
            </a:r>
            <a:br>
              <a:rPr sz="2800"/>
            </a:br>
            <a:r>
              <a:rPr b="0" lang="en-US" sz="2800" spc="-1" strike="noStrike">
                <a:solidFill>
                  <a:srgbClr val="4e3b30"/>
                </a:solidFill>
                <a:latin typeface="Verdana"/>
              </a:rPr>
              <a:t>does the mountain pine beetle</a:t>
            </a:r>
            <a:br>
              <a:rPr sz="2800"/>
            </a:br>
            <a:r>
              <a:rPr b="0" lang="en-US" sz="2800" spc="-1" strike="noStrike">
                <a:solidFill>
                  <a:srgbClr val="4e3b30"/>
                </a:solidFill>
                <a:latin typeface="Verdana"/>
              </a:rPr>
              <a:t>have?</a:t>
            </a:r>
            <a:endParaRPr b="0" lang="en-US" sz="2800" spc="-1" strike="noStrike">
              <a:solidFill>
                <a:srgbClr val="4e3b30"/>
              </a:solidFill>
              <a:latin typeface="Verdana"/>
            </a:endParaRPr>
          </a:p>
        </p:txBody>
      </p:sp>
      <p:sp>
        <p:nvSpPr>
          <p:cNvPr id="59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9" descr="See full size image">
            <a:hlinkClick r:id="rId1"/>
          </p:cNvPr>
          <p:cNvPicPr/>
          <p:nvPr/>
        </p:nvPicPr>
        <p:blipFill>
          <a:blip r:embed="rId2"/>
          <a:stretch/>
        </p:blipFill>
        <p:spPr>
          <a:xfrm>
            <a:off x="6553080" y="3419640"/>
            <a:ext cx="1362240" cy="15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One line of symmetry. Drawing one bilateral line creates two congruent (similar) sides.</a:t>
            </a:r>
            <a:endParaRPr b="0" lang="en-US" sz="2800" spc="-1" strike="noStrike">
              <a:solidFill>
                <a:srgbClr val="4e3b30"/>
              </a:solidFill>
              <a:latin typeface="Verdana"/>
            </a:endParaRPr>
          </a:p>
        </p:txBody>
      </p:sp>
      <p:sp>
        <p:nvSpPr>
          <p:cNvPr id="6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11"/>
          <p:cNvGrpSpPr/>
          <p:nvPr/>
        </p:nvGrpSpPr>
        <p:grpSpPr>
          <a:xfrm>
            <a:off x="6553080" y="3200400"/>
            <a:ext cx="1362240" cy="1930680"/>
            <a:chOff x="6553080" y="3200400"/>
            <a:chExt cx="1362240" cy="1930680"/>
          </a:xfrm>
        </p:grpSpPr>
        <p:pic>
          <p:nvPicPr>
            <p:cNvPr id="605" name="Picture 9" descr="See full size image">
              <a:hlinkClick r:id="rId1"/>
            </p:cNvPr>
            <p:cNvPicPr/>
            <p:nvPr/>
          </p:nvPicPr>
          <p:blipFill>
            <a:blip r:embed="rId2"/>
            <a:stretch/>
          </p:blipFill>
          <p:spPr>
            <a:xfrm>
              <a:off x="6553080" y="3419280"/>
              <a:ext cx="1362240" cy="1532880"/>
            </a:xfrm>
            <a:prstGeom prst="rect">
              <a:avLst/>
            </a:prstGeom>
            <a:ln w="0">
              <a:noFill/>
            </a:ln>
          </p:spPr>
        </p:pic>
        <p:cxnSp>
          <p:nvCxnSpPr>
            <p:cNvPr id="606" name="AutoShape 2"/>
            <p:cNvCxnSpPr/>
            <p:nvPr/>
          </p:nvCxnSpPr>
          <p:spPr>
            <a:xfrm>
              <a:off x="6562080" y="3200400"/>
              <a:ext cx="1211040" cy="193104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learning to recognize insect damage in various plants. While viewing healthy and infested pictures of leaves, they note the lines of symmetry that exist. </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many lines of symmetry are there in healthy leaves and in infested leaves?</a:t>
            </a:r>
            <a:endParaRPr b="0" lang="en-US" sz="2800" spc="-1" strike="noStrike">
              <a:solidFill>
                <a:srgbClr val="4e3b30"/>
              </a:solidFill>
              <a:latin typeface="Verdana"/>
            </a:endParaRPr>
          </a:p>
        </p:txBody>
      </p:sp>
      <p:pic>
        <p:nvPicPr>
          <p:cNvPr id="609" name="Picture 24" descr="http://www.bugfolks.com/wp-content/uploads/2008/08/the-beggar-caterpillar-damage-on-violet-leaf.jpg"/>
          <p:cNvPicPr/>
          <p:nvPr/>
        </p:nvPicPr>
        <p:blipFill>
          <a:blip r:embed="rId1"/>
          <a:stretch/>
        </p:blipFill>
        <p:spPr>
          <a:xfrm>
            <a:off x="5257800" y="4495680"/>
            <a:ext cx="1914480" cy="1552680"/>
          </a:xfrm>
          <a:prstGeom prst="rect">
            <a:avLst/>
          </a:prstGeom>
          <a:ln w="0">
            <a:noFill/>
          </a:ln>
        </p:spPr>
      </p:pic>
      <p:pic>
        <p:nvPicPr>
          <p:cNvPr id="610" name="Picture 27" descr="See full size image"/>
          <p:cNvPicPr/>
          <p:nvPr/>
        </p:nvPicPr>
        <p:blipFill>
          <a:blip r:embed="rId2"/>
          <a:stretch/>
        </p:blipFill>
        <p:spPr>
          <a:xfrm>
            <a:off x="1609560" y="4495680"/>
            <a:ext cx="2200320" cy="154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Healthy leaves have one line of symmetry. Leaves that have been damaged by insects have no lines of symmetry because of the holes that have been created.</a:t>
            </a:r>
            <a:endParaRPr b="0" lang="en-US" sz="2800" spc="-1" strike="noStrike">
              <a:solidFill>
                <a:srgbClr val="4e3b30"/>
              </a:solidFill>
              <a:latin typeface="Verdana"/>
            </a:endParaRPr>
          </a:p>
        </p:txBody>
      </p:sp>
      <p:pic>
        <p:nvPicPr>
          <p:cNvPr id="613" name="Picture 24" descr="http://www.bugfolks.com/wp-content/uploads/2008/08/the-beggar-caterpillar-damage-on-violet-leaf.jpg"/>
          <p:cNvPicPr/>
          <p:nvPr/>
        </p:nvPicPr>
        <p:blipFill>
          <a:blip r:embed="rId1"/>
          <a:stretch/>
        </p:blipFill>
        <p:spPr>
          <a:xfrm>
            <a:off x="5257800" y="4495680"/>
            <a:ext cx="1914480" cy="1552680"/>
          </a:xfrm>
          <a:prstGeom prst="rect">
            <a:avLst/>
          </a:prstGeom>
          <a:ln w="0">
            <a:noFill/>
          </a:ln>
        </p:spPr>
      </p:pic>
      <p:grpSp>
        <p:nvGrpSpPr>
          <p:cNvPr id="614" name="Group 9"/>
          <p:cNvGrpSpPr/>
          <p:nvPr/>
        </p:nvGrpSpPr>
        <p:grpSpPr>
          <a:xfrm>
            <a:off x="1609560" y="4267080"/>
            <a:ext cx="2200320" cy="1975320"/>
            <a:chOff x="1609560" y="4267080"/>
            <a:chExt cx="2200320" cy="1975320"/>
          </a:xfrm>
        </p:grpSpPr>
        <p:pic>
          <p:nvPicPr>
            <p:cNvPr id="615" name="Picture 27" descr="See full size image"/>
            <p:cNvPicPr/>
            <p:nvPr/>
          </p:nvPicPr>
          <p:blipFill>
            <a:blip r:embed="rId2"/>
            <a:stretch/>
          </p:blipFill>
          <p:spPr>
            <a:xfrm>
              <a:off x="1609560" y="4495680"/>
              <a:ext cx="2200320" cy="1543320"/>
            </a:xfrm>
            <a:prstGeom prst="rect">
              <a:avLst/>
            </a:prstGeom>
            <a:ln w="0">
              <a:noFill/>
            </a:ln>
          </p:spPr>
        </p:pic>
        <p:cxnSp>
          <p:nvCxnSpPr>
            <p:cNvPr id="616" name="AutoShape 19"/>
            <p:cNvCxnSpPr/>
            <p:nvPr/>
          </p:nvCxnSpPr>
          <p:spPr>
            <a:xfrm flipH="1">
              <a:off x="2371320" y="4267080"/>
              <a:ext cx="733680" cy="1975680"/>
            </a:xfrm>
            <a:prstGeom prst="straightConnector1">
              <a:avLst/>
            </a:prstGeom>
            <a:ln w="28440">
              <a:solidFill>
                <a:srgbClr val="000000"/>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Natural Resources students identify lines of symmetry that exist in n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atural Resources—NR4.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gnize insect types and available controls to prevent insect infestation.</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lassify insects into their proper family groups.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damage created by insects by observing various examples of infestation.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cuss emerald ash borer.</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escribe mountain pine beetle infest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G.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reflect across vertical or horizontal lines and translate two-dimensional figur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lines of symmetr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 line of symmetry divides a figure into two congruent halv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gruent means similar, matching, or fitting.</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to find lines of symmetry:</a:t>
            </a:r>
            <a:endParaRPr b="0" lang="en-US" sz="2800" spc="-1" strike="noStrike">
              <a:solidFill>
                <a:srgbClr val="4e3b30"/>
              </a:solidFill>
              <a:latin typeface="Verdana"/>
            </a:endParaRPr>
          </a:p>
          <a:p>
            <a:pPr lvl="1" marL="914400" indent="-5144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Look for midpoints in the shape.</a:t>
            </a:r>
            <a:endParaRPr b="0" lang="en-US" sz="2400" spc="-1" strike="noStrike">
              <a:solidFill>
                <a:srgbClr val="4e3b30"/>
              </a:solidFill>
              <a:latin typeface="Verdana"/>
            </a:endParaRPr>
          </a:p>
          <a:p>
            <a:pPr lvl="1" marL="914400" indent="-5144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Use a ruler to draw a straight line through the estimated midpoint.</a:t>
            </a:r>
            <a:endParaRPr b="0" lang="en-US" sz="2400" spc="-1" strike="noStrike">
              <a:solidFill>
                <a:srgbClr val="4e3b30"/>
              </a:solidFill>
              <a:latin typeface="Verdana"/>
            </a:endParaRPr>
          </a:p>
          <a:p>
            <a:pPr lvl="1" marL="914400" indent="-5144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old the shape in half to see if both sides match. If they do, it is a line of symmetr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 rectangle has two lines of symmetry because there are two ways to divide the shape into two congruent halves. A square has four lines of symmetry because there are four ways to divide the shape into two congruent halves. A regular pentagon has five lines of symmetry.</a:t>
            </a:r>
            <a:endParaRPr b="0" lang="en-US" sz="2800" spc="-1" strike="noStrike">
              <a:solidFill>
                <a:srgbClr val="4e3b30"/>
              </a:solidFill>
              <a:latin typeface="Verdana"/>
            </a:endParaRPr>
          </a:p>
        </p:txBody>
      </p:sp>
      <p:pic>
        <p:nvPicPr>
          <p:cNvPr id="566" name="Picture 33" descr="http://staff.kings.edu/kdils/StudentWork/LoriJ/lesson_1_files/symmetric%20rectangle.png"/>
          <p:cNvPicPr/>
          <p:nvPr/>
        </p:nvPicPr>
        <p:blipFill>
          <a:blip r:embed="rId1"/>
          <a:stretch/>
        </p:blipFill>
        <p:spPr>
          <a:xfrm>
            <a:off x="1447920" y="4879800"/>
            <a:ext cx="1285920" cy="1285920"/>
          </a:xfrm>
          <a:prstGeom prst="rect">
            <a:avLst/>
          </a:prstGeom>
          <a:ln w="0">
            <a:noFill/>
          </a:ln>
        </p:spPr>
      </p:pic>
      <p:pic>
        <p:nvPicPr>
          <p:cNvPr id="567" name="Picture 30" descr="http://staff.kings.edu/kdils/StudentWork/LoriJ/lesson_1_files/symmetric%20square.png"/>
          <p:cNvPicPr/>
          <p:nvPr/>
        </p:nvPicPr>
        <p:blipFill>
          <a:blip r:embed="rId2"/>
          <a:stretch/>
        </p:blipFill>
        <p:spPr>
          <a:xfrm>
            <a:off x="4002120" y="4879800"/>
            <a:ext cx="1282680" cy="1281240"/>
          </a:xfrm>
          <a:prstGeom prst="rect">
            <a:avLst/>
          </a:prstGeom>
          <a:ln w="0">
            <a:noFill/>
          </a:ln>
        </p:spPr>
      </p:pic>
      <p:pic>
        <p:nvPicPr>
          <p:cNvPr id="568" name="Picture 39" descr="http://staff.kings.edu/kdils/StudentWork/LoriJ/lesson_1_files/symmetric%20pentagon.png"/>
          <p:cNvPicPr/>
          <p:nvPr/>
        </p:nvPicPr>
        <p:blipFill>
          <a:blip r:embed="rId3"/>
          <a:stretch/>
        </p:blipFill>
        <p:spPr>
          <a:xfrm>
            <a:off x="6553080" y="4879800"/>
            <a:ext cx="1225800" cy="129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re are shapes that have no lines of symmetry. Here are some examples:</a:t>
            </a:r>
            <a:endParaRPr b="0" lang="en-US" sz="2800" spc="-1" strike="noStrike">
              <a:solidFill>
                <a:srgbClr val="4e3b30"/>
              </a:solidFill>
              <a:latin typeface="Verdana"/>
            </a:endParaRPr>
          </a:p>
        </p:txBody>
      </p:sp>
      <p:pic>
        <p:nvPicPr>
          <p:cNvPr id="571" name="Picture 42" descr="http://staff.kings.edu/kdils/StudentWork/LoriJ/lesson_1_files/symmetric%20no%20no's.png"/>
          <p:cNvPicPr/>
          <p:nvPr/>
        </p:nvPicPr>
        <p:blipFill>
          <a:blip r:embed="rId1"/>
          <a:srcRect l="0" t="0" r="59190" b="0"/>
          <a:stretch/>
        </p:blipFill>
        <p:spPr>
          <a:xfrm>
            <a:off x="1219320" y="3276720"/>
            <a:ext cx="1523880" cy="1047600"/>
          </a:xfrm>
          <a:prstGeom prst="rect">
            <a:avLst/>
          </a:prstGeom>
          <a:ln w="0">
            <a:noFill/>
          </a:ln>
        </p:spPr>
      </p:pic>
      <p:pic>
        <p:nvPicPr>
          <p:cNvPr id="572" name="Picture 42" descr="http://staff.kings.edu/kdils/StudentWork/LoriJ/lesson_1_files/symmetric%20no%20no's.png"/>
          <p:cNvPicPr/>
          <p:nvPr/>
        </p:nvPicPr>
        <p:blipFill>
          <a:blip r:embed="rId2"/>
          <a:srcRect l="46940" t="0" r="36740" b="0"/>
          <a:stretch/>
        </p:blipFill>
        <p:spPr>
          <a:xfrm>
            <a:off x="4076640" y="3276720"/>
            <a:ext cx="609840" cy="1047600"/>
          </a:xfrm>
          <a:prstGeom prst="rect">
            <a:avLst/>
          </a:prstGeom>
          <a:ln w="0">
            <a:noFill/>
          </a:ln>
        </p:spPr>
      </p:pic>
      <p:pic>
        <p:nvPicPr>
          <p:cNvPr id="573" name="Picture 42" descr="http://staff.kings.edu/kdils/StudentWork/LoriJ/lesson_1_files/symmetric%20no%20no's.png"/>
          <p:cNvPicPr/>
          <p:nvPr/>
        </p:nvPicPr>
        <p:blipFill>
          <a:blip r:embed="rId3"/>
          <a:srcRect l="67350" t="0" r="0" b="0"/>
          <a:stretch/>
        </p:blipFill>
        <p:spPr>
          <a:xfrm>
            <a:off x="6019920" y="3276720"/>
            <a:ext cx="121896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studying the insect Order Lepidoptera (butterflies). They review how to determine lines of symmetry. Then they use their geometry skills to identify the symmetrical portions of the insect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5:38:20Z</dcterms:modified>
  <cp:revision>29</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5746928</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vt:lpwstr>
  </property>
</Properties>
</file>